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move the slide</a:t>
            </a:r>
            <a:endParaRPr b="0" lang="en-US" sz="4400" spc="-1" strike="noStrike">
              <a:solidFill>
                <a:srgbClr val="000080"/>
              </a:solidFill>
              <a:latin typeface="Times New Roman"/>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1A6BB9-B750-4D67-90CF-D64AC9918E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day we will explore the following point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easily jump to the design of a lesson without asking ourselves whether we have the necessary evidence to assess for the core knowledge and if we are aiming for it</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Example 1:Making peanut brittle offers little in the way of big ideas and enduring understandings.</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Example 2: The state standards require students to understand the causes and effects of the Civil War. Excellent or poor performance on the proposed project is unrelated to the content standard. In other words a student could produce a wonderful diorama while having only limited understanding of the war's causes and effects </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must short circuit this natural instinct!!!!!</a:t>
            </a: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we need to consider the second phase of thinking like an assessor, asking, Against what criteria will we judge such evidence? What are the kinds of things to look for?</a:t>
            </a:r>
            <a:endParaRPr b="0" lang="en-US" sz="2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ee figure 5.4 on the back of page 3 of your bookl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is is a partial list of applicable criteria for each fac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o we now want to find out which actions, responses, or performances are most characteristic of --indicators -of-- understanding, some understanding, or little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nderstanding is a matter of degree on a continuum</a:t>
            </a:r>
            <a:endParaRPr b="0" lang="en-US" sz="2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does a novices understanding of the cold war look like compared with an exper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characterizes a more in depth but still not expert vie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are the key characteristics of an elementary theory versus an advanced theory for the same scientific phenomen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a simple and sophisticated proof in mathematic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between a complex and simple analysis of a literary text or historical event?</a:t>
            </a:r>
            <a:endParaRPr b="0" lang="en-US" sz="2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e rubric on page 4 and 5 of your booklet is a general framework for making distinctions and judgments in accordance with the six facets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 make the rubric useful within a specific course of study, add bulleted indicators under each descriptor.</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Discuss any authentic performance tasks you have designed and how they were feasible and student friendl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were the understandings you were assess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se the chart on page 7and 8 of your booklet to help you design a performance task that will assess one of the facets of understanding</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en planning units this is where we depart from traditional think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 </a:t>
            </a:r>
            <a:r>
              <a:rPr b="1" lang="en-US" sz="2000" spc="-1" strike="noStrike">
                <a:solidFill>
                  <a:srgbClr val="000000"/>
                </a:solidFill>
                <a:latin typeface="Arial"/>
                <a:ea typeface="Arial Unicode MS"/>
              </a:rPr>
              <a:t>What would count as evidence of successful teaching?</a:t>
            </a:r>
            <a:r>
              <a:rPr b="0" lang="en-US" sz="2000" spc="-1" strike="noStrike">
                <a:solidFill>
                  <a:srgbClr val="000000"/>
                </a:solidFill>
                <a:latin typeface="Arial"/>
                <a:ea typeface="Arial Unicode MS"/>
              </a:rPr>
              <a:t>, instead of moving from target to teach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What counts as evidence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000000"/>
                </a:solidFill>
                <a:latin typeface="Arial"/>
                <a:ea typeface="Arial Unicode MS"/>
              </a:rPr>
              <a:t>Consider the following chart:</a:t>
            </a:r>
            <a:endParaRPr b="0" lang="en-US" sz="2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685440" y="4952520"/>
            <a:ext cx="6048360" cy="472140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1" lang="en-US" sz="2000" spc="-1" strike="noStrike">
                <a:solidFill>
                  <a:srgbClr val="000000"/>
                </a:solidFill>
                <a:latin typeface="Arial"/>
                <a:ea typeface="Arial Unicode MS"/>
              </a:rPr>
              <a:t>The First set of questions ensure that the eventual activities and instructional strategies simultaneously derive from and point toward the appropiate final assessmen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The second set of questions, though logical from the perspective of activity design, makes it far less likely that the work will cullminate in understanding or that we will have the evidence we need to judge whether such understandings has occurred.</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Let's take a close look at the six facets of understanding and the kinds of evidence needed to assess for understanding.....</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EA486-B16D-4ECB-B511-F73959A1E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515F0-AE9A-4AD8-93CA-62D15CCCD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1ADDF-6763-4521-B087-4FBD7B875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67DA6-F144-440B-8D41-48653AE69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05AA-76F7-442A-B6D7-262E203C7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CFA47-5BAC-4369-A42B-F1F5BA290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0624-9B13-46AA-89AE-965BA8AAD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A13A-C776-4DAB-991D-477F9FA20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2B790-BCF7-4FFA-A089-0A22A6B26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59E5E-3CD8-4F12-967F-5D94A3A3C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33D6-28B2-4C70-8203-C836212BA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A5947-B1D4-465D-BAE3-B7BEB78BC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1"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C91EDB-8035-41D5-B68C-CE4075C3F0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8320"/>
            <a:ext cx="9070920" cy="4530960"/>
          </a:xfrm>
          <a:prstGeom prst="rect">
            <a:avLst/>
          </a:prstGeom>
          <a:noFill/>
          <a:ln w="0">
            <a:noFill/>
          </a:ln>
        </p:spPr>
        <p:txBody>
          <a:bodyPr lIns="0" rIns="0" tIns="0" bIns="0" anchor="t">
            <a:normAutofit fontScale="99000"/>
          </a:bodyPr>
          <a:p>
            <a:pPr marL="855000" indent="-63972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Understanding</a:t>
            </a: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resented by: Mark Mayer</a:t>
            </a:r>
            <a:endParaRPr b="0" lang="en-US" sz="3200" spc="-1" strike="noStrike">
              <a:solidFill>
                <a:srgbClr val="000000"/>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8" name="PlaceHolder 2"/>
          <p:cNvSpPr>
            <a:spLocks noGrp="1"/>
          </p:cNvSpPr>
          <p:nvPr>
            <p:ph/>
          </p:nvPr>
        </p:nvSpPr>
        <p:spPr>
          <a:xfrm>
            <a:off x="529920" y="17971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cus on the 5 W's- who, what, where, when, and why, in instruction and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uild units around overarching (essential and unit) questions, issues, and problems that demand student theories and explanations, such as those found in problem-based learning and effective hands-on and minds-on science programs.</a:t>
            </a:r>
            <a:endParaRPr b="0" lang="en-US" sz="3200" spc="-1" strike="noStrike">
              <a:solidFill>
                <a:srgbClr val="000000"/>
              </a:solidFill>
              <a:latin typeface="Times New Roman"/>
            </a:endParaRPr>
          </a:p>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0"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Use assessments (eg. performance tasks, projects, prompts and tests) that ask students to explain, not simply recall; to link specific facts with larger ideas and justify the connections; show their work, not just give an answer; and to support their conclusion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Discussion with your group:</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With this in mind discuss assessment tasks you have designed that assess students ability to explain.</a:t>
            </a:r>
            <a:endParaRPr b="0" lang="en-US" sz="3200" spc="-1" strike="noStrike">
              <a:solidFill>
                <a:srgbClr val="000000"/>
              </a:solidFill>
              <a:latin typeface="Times New Roma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4" name="PlaceHolder 2"/>
          <p:cNvSpPr>
            <a:spLocks noGrp="1"/>
          </p:cNvSpPr>
          <p:nvPr>
            <p:ph/>
          </p:nvPr>
        </p:nvSpPr>
        <p:spPr>
          <a:xfrm>
            <a:off x="456840" y="1768320"/>
            <a:ext cx="911844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it mean? Why does it matter?What of it? What does it illustrate or illuminate in human experience? How does it relate to me? What makes sense?</a:t>
            </a:r>
            <a:endParaRPr b="0" lang="en-US" sz="3200" spc="-1" strike="noStrike">
              <a:solidFill>
                <a:srgbClr val="000000"/>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grandfather tells stories about the Depression to illustrate the importance of saving for a rainy day</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n 11</a:t>
            </a:r>
            <a:r>
              <a:rPr b="0" lang="en-US" sz="3200" spc="-1" strike="noStrike" baseline="33000">
                <a:solidFill>
                  <a:srgbClr val="000000"/>
                </a:solidFill>
                <a:latin typeface="Tahoma"/>
              </a:rPr>
              <a:t>th</a:t>
            </a:r>
            <a:r>
              <a:rPr b="0" lang="en-US" sz="3200" spc="-1" strike="noStrike">
                <a:solidFill>
                  <a:srgbClr val="000000"/>
                </a:solidFill>
                <a:latin typeface="Tahoma"/>
              </a:rPr>
              <a:t> grader shows how Gulliver's Travels can be read as a satire on British intellectual life; it's not just a fairy tale</a:t>
            </a:r>
            <a:endParaRPr b="0" lang="en-US" sz="3200" spc="-1" strike="noStrike">
              <a:solidFill>
                <a:srgbClr val="000000"/>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8"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cannot be primarily or exclusively the process of learning what someone else says is the meaning of someth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r autonomous intellectual performance we must teach students to build stories and interpretations, not just passively take in official on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80"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5000"/>
          </a:bodyPr>
          <a:p>
            <a:pPr marL="410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need to see how knowledge is built from the inside. Examples are:</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ashion an oral history out of interview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mathematical conclusion out of discrete data</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story interpretation based on a careful reading</a:t>
            </a:r>
            <a:endParaRPr b="0" lang="en-US" sz="32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and where can we use this knowledge, skill, or process? How should my thinking and action be modified to meet the demands of this particular situation?</a:t>
            </a:r>
            <a:endParaRPr b="0" lang="en-US" sz="3200" spc="-1" strike="noStrike">
              <a:solidFill>
                <a:srgbClr val="000000"/>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4" name="PlaceHolder 2"/>
          <p:cNvSpPr>
            <a:spLocks noGrp="1"/>
          </p:cNvSpPr>
          <p:nvPr>
            <p:ph/>
          </p:nvPr>
        </p:nvSpPr>
        <p:spPr>
          <a:xfrm>
            <a:off x="502920" y="1767960"/>
            <a:ext cx="9070920" cy="4596120"/>
          </a:xfrm>
          <a:prstGeom prst="rect">
            <a:avLst/>
          </a:prstGeom>
          <a:noFill/>
          <a:ln w="0">
            <a:noFill/>
          </a:ln>
        </p:spPr>
        <p:txBody>
          <a:bodyPr lIns="0" rIns="0" tIns="0" bIns="0" anchor="t">
            <a:normAutofit fontScale="99000"/>
          </a:bodyPr>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young couple uses their knowledge of economics (e.g. The power of compound interest and the high cost of credit cards) te develop an effective financial plan for saving and investing</a:t>
            </a:r>
            <a:endParaRPr b="0" lang="en-US" sz="3200" spc="-1" strike="noStrike">
              <a:solidFill>
                <a:srgbClr val="000000"/>
              </a:solidFill>
              <a:latin typeface="Times New Roman"/>
            </a:endParaRPr>
          </a:p>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7</a:t>
            </a:r>
            <a:r>
              <a:rPr b="0" lang="en-US" sz="3200" spc="-1" strike="noStrike" baseline="33000">
                <a:solidFill>
                  <a:srgbClr val="000000"/>
                </a:solidFill>
                <a:latin typeface="Tahoma"/>
              </a:rPr>
              <a:t>th</a:t>
            </a:r>
            <a:r>
              <a:rPr b="0" lang="en-US" sz="3200" spc="-1" strike="noStrike">
                <a:solidFill>
                  <a:srgbClr val="000000"/>
                </a:solidFill>
                <a:latin typeface="Tahoma"/>
              </a:rPr>
              <a:t> grade students use their knowledge of statistics to accurately project next year's costs and needs for the student-run candy and supply store</a:t>
            </a:r>
            <a:endParaRPr b="0" lang="en-US" sz="32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6" name="PlaceHolder 2"/>
          <p:cNvSpPr>
            <a:spLocks noGrp="1"/>
          </p:cNvSpPr>
          <p:nvPr>
            <p:ph/>
          </p:nvPr>
        </p:nvSpPr>
        <p:spPr>
          <a:xfrm>
            <a:off x="502920" y="17683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ituations must be new to the student or situations containing new elements as compared to the situation where the abstract was learn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asks we plan for students should be as close as possible to the situation in which a scholar, artist, engineer, or other professional attacks such task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evidence of  in-depth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ere should we look and what should we look for to determine the extent of student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kinds of assessment tasks and evidence needs to anchor our units of inquiry and thus guide our instruction?</a:t>
            </a:r>
            <a:endParaRPr b="0" lang="en-US" sz="3200" spc="-1" strike="noStrike">
              <a:solidFill>
                <a:srgbClr val="000000"/>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8" name="PlaceHolder 2"/>
          <p:cNvSpPr>
            <a:spLocks noGrp="1"/>
          </p:cNvSpPr>
          <p:nvPr>
            <p:ph/>
          </p:nvPr>
        </p:nvSpPr>
        <p:spPr>
          <a:xfrm>
            <a:off x="502920" y="1767960"/>
            <a:ext cx="9070920" cy="5316840"/>
          </a:xfrm>
          <a:prstGeom prst="rect">
            <a:avLst/>
          </a:prstGeom>
          <a:noFill/>
          <a:ln w="0">
            <a:noFill/>
          </a:ln>
        </p:spPr>
        <p:txBody>
          <a:bodyPr lIns="0" rIns="0" tIns="0" bIns="0" anchor="t">
            <a:normAutofit fontScale="99000"/>
          </a:bodyPr>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hasis on performance based learning</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inal products should be judged in terms of: </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the effect it has on the reader, observer, or audience</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 the adequacy with which it has accomplished the task, and/or</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c) evidence on the adequacy of the process by which it was developed</a:t>
            </a:r>
            <a:endParaRPr b="0" lang="en-US" sz="3200" spc="-1" strike="noStrike">
              <a:solidFill>
                <a:srgbClr val="000000"/>
              </a:solidFill>
              <a:latin typeface="Times New Roman"/>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rom whose point of view? From which vantage point? What is assumed that needs to be made explicit? What is justified or warranted? Is there adequate evidence? Is it reasonable? What are the strengths and weaknesses of the ideas? Is it plausible? What are the limits? So what?</a:t>
            </a:r>
            <a:endParaRPr b="0" lang="en-US" sz="3200" spc="-1" strike="noStrike">
              <a:solidFill>
                <a:srgbClr val="000000"/>
              </a:solidFill>
              <a:latin typeface="Times New Roma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10-year old girl recognizes in TV advertising the fallacy of using popular figures to promote product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 student explains the Israeli and Palestinian arguments for and against safe passage between Gaza and the West Bank</a:t>
            </a:r>
            <a:endParaRPr b="0" lang="en-US" sz="3200" spc="-1" strike="noStrike">
              <a:solidFill>
                <a:srgbClr val="000000"/>
              </a:solidFill>
              <a:latin typeface="Times New Roma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struction should include explicit opportunities for students to confront alternative theories and diverse points of view regarding the big idea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must ask, how does it look from a different point of view?</a:t>
            </a:r>
            <a:endParaRPr b="0" lang="en-US" sz="3200" spc="-1" strike="noStrike">
              <a:solidFill>
                <a:srgbClr val="000000"/>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it seem to you? What do they see that I don't? What do I need to experience if I am to understand? What was the artist or the performer feeling, seeing, and trying to make me feel or see?</a:t>
            </a:r>
            <a:endParaRPr b="0" lang="en-US" sz="3200" spc="-1" strike="noStrike">
              <a:solidFill>
                <a:srgbClr val="000000"/>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Eri empathizes with her Dresden roommate who has just been walloped by the WIS Wolve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Romeo and Juliet, act4. Imagine you are Juliet. Write your thoughts and feelings explaining why have to take this desperate action.</a:t>
            </a:r>
            <a:endParaRPr b="0" lang="en-US" sz="3200" spc="-1" strike="noStrike">
              <a:solidFill>
                <a:srgbClr val="000000"/>
              </a:solidFill>
              <a:latin typeface="Times New Roma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o ensure greater understanding of abstract ideas, students must have far more direct or simulated experiences of them than most current textbook-driven courses now allow.</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needs to be more experiential, more geared towards making students directly confront the effects-and affect- of decisions, ideas, theories, and problems.</a:t>
            </a:r>
            <a:endParaRPr b="0" lang="en-US" sz="3200" spc="-1" strike="noStrike">
              <a:solidFill>
                <a:srgbClr val="000000"/>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pay greater attention to whether students have overcome egocentrism, ethnocentrism, and present-centeredness in their answers and explanation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who I am shape my ideas? What are the limits of my understanding? What are my blind spots? What am I prone to misunderstand because of prejudice, habit, or style?</a:t>
            </a:r>
            <a:endParaRPr b="0" lang="en-US" sz="3200" spc="-1" strike="noStrike">
              <a:solidFill>
                <a:srgbClr val="000000"/>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mother realizes that her frustration with her daughter's shyness is rooted in issues from her own childhood.</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Mindful of the fact that many students are visual learners, a middle school teacher deliberately includes visual organizers and images</a:t>
            </a:r>
            <a:endParaRPr b="0" lang="en-US" sz="32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Not a Natural Process</a:t>
            </a:r>
            <a:endParaRPr b="0" lang="en-US" sz="4400" spc="-1" strike="noStrike">
              <a:solidFill>
                <a:srgbClr val="000080"/>
              </a:solidFill>
              <a:latin typeface="Times New Roman"/>
            </a:endParaRPr>
          </a:p>
        </p:txBody>
      </p:sp>
      <p:sp>
        <p:nvSpPr>
          <p:cNvPr id="53" name="PlaceHolder 2"/>
          <p:cNvSpPr>
            <a:spLocks noGrp="1"/>
          </p:cNvSpPr>
          <p:nvPr>
            <p:ph/>
          </p:nvPr>
        </p:nvSpPr>
        <p:spPr>
          <a:xfrm>
            <a:off x="502920" y="1768320"/>
            <a:ext cx="9070920" cy="4910400"/>
          </a:xfrm>
          <a:prstGeom prst="rect">
            <a:avLst/>
          </a:prstGeom>
          <a:noFill/>
          <a:ln w="0">
            <a:noFill/>
          </a:ln>
        </p:spPr>
        <p:txBody>
          <a:bodyPr lIns="0" rIns="0" tIns="20160" bIns="0" anchor="t">
            <a:normAutofit fontScale="98000"/>
          </a:bodyPr>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Teachers are used to thinking like an activity designer</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1: 7</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science students are told they will have to eat the results of their next science experiment. The teacher captures the energy and imagination of his students. </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2: A 5</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teacher proposes to center the major project of her Civil War unit around a student diorama of a great battle of war with supporting exhibit materials.</a:t>
            </a:r>
            <a:endParaRPr b="0" lang="en-US" sz="3200" spc="-1" strike="noStrike">
              <a:solidFill>
                <a:srgbClr val="000000"/>
              </a:solidFill>
              <a:latin typeface="Times New Roma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be shown how to self- assess effectively and must be given time to do so in the classroom</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also be shown how to accept feedback and criticism without defensiveness</a:t>
            </a:r>
            <a:endParaRPr b="0" lang="en-US" sz="3200" spc="-1" strike="noStrike">
              <a:solidFill>
                <a:srgbClr val="000000"/>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1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ophisticated understanding vs. naive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used to understand the degree of a students understanding on a continuum</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2"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the difference between successful and unsuccessful explanations, interpretations, and ap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are the kinds of things to look for?</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will we judge such evidenc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will we clarify the criteria for judging performance?</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provide useful guidance in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rubric for understanding is not a typical rubric describing a progression of skill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need to ask questions lik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a range of explanations look like?</a:t>
            </a:r>
            <a:endParaRPr b="0" lang="en-US" sz="3200" spc="-1" strike="noStrike">
              <a:solidFill>
                <a:srgbClr val="000000"/>
              </a:solidFill>
              <a:latin typeface="Times New Roman"/>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the facets of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Need a rubric that combines insight and performance which are related to understanding of ideas and meaning.</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18"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should our assessment be judg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b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i="1" lang="en-US" sz="3200" spc="-1" strike="noStrike">
                <a:solidFill>
                  <a:srgbClr val="000000"/>
                </a:solidFill>
                <a:latin typeface="Tahoma"/>
              </a:rPr>
              <a:t>Valid ( </a:t>
            </a:r>
            <a:r>
              <a:rPr b="0" lang="en-US" sz="3200" spc="-1" strike="noStrike">
                <a:solidFill>
                  <a:srgbClr val="000000"/>
                </a:solidFill>
                <a:latin typeface="Tahoma"/>
              </a:rPr>
              <a:t>evidence that will let us draw accurate inferences about specific student understanding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US" sz="3200" spc="-1" strike="noStrike">
                <a:solidFill>
                  <a:srgbClr val="000000"/>
                </a:solidFill>
                <a:latin typeface="Tahoma"/>
              </a:rPr>
              <a:t>Reliable ( </a:t>
            </a:r>
            <a:r>
              <a:rPr b="0" lang="en-US" sz="3200" spc="-1" strike="noStrike">
                <a:solidFill>
                  <a:srgbClr val="000000"/>
                </a:solidFill>
                <a:latin typeface="Tahoma"/>
              </a:rPr>
              <a:t>evidence that gives a picture of the students'  “true” abiliti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20"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should see the students' understanding in different contexts, at different times, and on different types of assessments before we make a confident judg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for understanding should be grounded in an “authentic performance task.”</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lans for assessment needs to be “feasible” and “student friendly.”</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Bibliography</a:t>
            </a:r>
            <a:endParaRPr b="0" lang="en-US" sz="4400" spc="-1" strike="noStrike">
              <a:solidFill>
                <a:srgbClr val="000080"/>
              </a:solidFill>
              <a:latin typeface="Times New Roman"/>
            </a:endParaRPr>
          </a:p>
        </p:txBody>
      </p:sp>
      <p:sp>
        <p:nvSpPr>
          <p:cNvPr id="122"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Wiggins, G., &amp; Mc Tighe, J.</a:t>
            </a:r>
            <a:r>
              <a:rPr b="0" i="1" lang="en-US" sz="3200" spc="-1" strike="noStrike">
                <a:solidFill>
                  <a:srgbClr val="000000"/>
                </a:solidFill>
                <a:latin typeface="Times New Roman"/>
              </a:rPr>
              <a:t> Understanding by Design. </a:t>
            </a:r>
            <a:r>
              <a:rPr b="0" lang="en-US" sz="3200" spc="-1" strike="noStrike">
                <a:solidFill>
                  <a:srgbClr val="000000"/>
                </a:solidFill>
                <a:latin typeface="Times New Roman"/>
              </a:rPr>
              <a:t>Alexandria, VA. Association for Supervision and Curriculum Development</a:t>
            </a:r>
            <a:endParaRPr b="0" lang="en-US" sz="32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Two Basic Questions</a:t>
            </a:r>
            <a:endParaRPr b="0" lang="en-US" sz="4400" spc="-1" strike="noStrike">
              <a:solidFill>
                <a:srgbClr val="000080"/>
              </a:solidFill>
              <a:latin typeface="Times New Roman"/>
            </a:endParaRPr>
          </a:p>
        </p:txBody>
      </p:sp>
      <p:sp>
        <p:nvSpPr>
          <p:cNvPr id="55"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ere should we look to find hallmark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Consider the necessary evidence in general;What kinds of performance or behavior would indicate student understanding</a:t>
            </a:r>
            <a:endParaRPr b="0" lang="en-US" sz="20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at should we look for in determining and distinguishing degree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Focus on the most sailent and revealing criteria for identifying differentiating levels of degrees of understanding-using criteria and rubrics to sort work by quality along a continuum</a:t>
            </a:r>
            <a:endParaRPr b="0" lang="en-US" sz="20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wo Different Approaches</a:t>
            </a:r>
            <a:endParaRPr b="0" lang="en-US" sz="4400" spc="-1" strike="noStrike">
              <a:solidFill>
                <a:srgbClr val="000080"/>
              </a:solidFill>
              <a:latin typeface="Times New Roman"/>
            </a:endParaRPr>
          </a:p>
        </p:txBody>
      </p:sp>
      <p:sp>
        <p:nvSpPr>
          <p:cNvPr id="57"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graphicFrame>
        <p:nvGraphicFramePr>
          <p:cNvPr id="58" name=""/>
          <p:cNvGraphicFramePr/>
          <p:nvPr/>
        </p:nvGraphicFramePr>
        <p:xfrm>
          <a:off x="457200" y="1371600"/>
          <a:ext cx="9144000" cy="5715000"/>
        </p:xfrm>
        <a:graphic>
          <a:graphicData uri="http://schemas.openxmlformats.org/drawingml/2006/table">
            <a:tbl>
              <a:tblPr/>
              <a:tblGrid>
                <a:gridCol w="4546440"/>
                <a:gridCol w="4597560"/>
              </a:tblGrid>
              <a:tr h="832680">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ssesso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ctivity Designe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sufficient and revealing evidence of understanding?</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a:no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interesting and engaging activities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performance tasks must anchor the unit and focus the instructional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a:no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resources and materials are available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325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be able to distinguish between those who really understand and those who don't (though they may seem to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ill students be doing in and out of class? What assignments will be given?</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Against what criteria will I distinguish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give students a grade(and justify it to their parents)?</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misunderstandings are likely?How will I check for those?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Did the activities work? Why or why not?</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Assessing understanding considers that we:</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Use a range of methods of assessment</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On-going formative and informal assessment is vital if students are to achieve understanding and avoid misunderstanding</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ix Facets of Understanding</a:t>
            </a:r>
            <a:endParaRPr b="0" lang="en-US" sz="4400" spc="-1" strike="noStrike">
              <a:solidFill>
                <a:srgbClr val="000080"/>
              </a:solidFill>
              <a:latin typeface="Times New Roman"/>
            </a:endParaRPr>
          </a:p>
        </p:txBody>
      </p:sp>
      <p:sp>
        <p:nvSpPr>
          <p:cNvPr id="62"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863640" indent="-64620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xplan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terpret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pplic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erspective</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athy</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elf-Knowledge</a:t>
            </a:r>
            <a:endParaRPr b="0" lang="en-US" sz="3200" spc="-1" strike="noStrike">
              <a:solidFill>
                <a:srgbClr val="000000"/>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55680"/>
            <a:ext cx="9070920" cy="122688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br>
              <a:rPr sz="3600"/>
            </a:b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Why is that so? What explains such events? What accounts for such action? How can we prove it? To what is this connected? How does this work? What is implied?</a:t>
            </a:r>
            <a:endParaRPr b="0" lang="en-US" sz="36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6"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6000"/>
          </a:bodyPr>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cook explains why adding a little mustard to oil and vinegar enables them to mix. The mustard acts as an emulsifier.</a:t>
            </a: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a:t>
            </a:r>
            <a:r>
              <a:rPr b="0" lang="en-US" sz="3200" spc="-1" strike="noStrike">
                <a:solidFill>
                  <a:srgbClr val="000000"/>
                </a:solidFill>
                <a:latin typeface="Tahoma"/>
              </a:rPr>
              <a:t>- A 10th grade student provides a well-supported view of the economic and political causes of the American Revolution</a:t>
            </a:r>
            <a:endParaRPr b="0" lang="en-US" sz="3200" spc="-1" strike="noStrike">
              <a:solidFill>
                <a:srgbClr val="000000"/>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4:11:49Z</dcterms:created>
  <dc:creator>Mark Mayer</dc:creator>
  <dc:description>Presentation Layout Template</dc:description>
  <dc:language>en-US</dc:language>
  <cp:lastModifiedBy/>
  <cp:lastPrinted>2009-02-09T10:56:00Z</cp:lastPrinted>
  <dcterms:modified xsi:type="dcterms:W3CDTF">2009-02-09T10:55:36Z</dcterms:modified>
  <cp:revision>15</cp:revision>
  <dc:subject/>
  <dc:title>Blue and Red Gradient</dc:title>
</cp:coreProperties>
</file>