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B01-86FA-44AC-ACBC-3BEFE137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C3A-B4F9-4055-AF85-7665DCBE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039-94D3-48B0-8B86-3BE6B2BF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F05-6AFB-41D3-B012-D7C16D3A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2343-AAC8-4D32-B013-AB69869B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E50C-E648-4B44-B544-872598B0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F165-2A2A-41C5-B2DF-4D548BCF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9DDC-DBF4-4242-93B3-368E541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E5B0-AB72-432C-A4DE-97B8ED65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3468-BC5A-41A7-BB2B-5D4EE506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FB30-0031-4399-B514-94BB9116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DA2-4DF5-4AE7-A305-54F7F4AD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1A6A-063A-46F9-AA7C-3BADD845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05D5-BF70-4172-AF72-5B54C99F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E5F0-E12A-4527-9989-9D12E019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6690-C120-427F-8032-B302388B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CC76-5D88-43F7-B7CA-A878429F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87D-56F5-4ED6-9036-31F6EFCA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8AB-42A0-4E40-9BE6-2A67CD8A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A07-00E7-46B8-86B2-6A3FD5CE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3E8-68F7-4AA8-A7B2-84C6EB6F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5C9-FEFB-4E42-A4C4-AC229002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6AD-EDB0-4E5A-877D-73543824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373-7633-4FBA-8D25-3A85163D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FB4C-05D9-487D-BDEF-CACA1150A59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DA13-0966-430C-BCA8-904D700FCC7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Middle Years Program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17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PPROACHES TO LEARNING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rning system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learn b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communic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UNITY AND SERVICE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oth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live in relation to each 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contribute to the commun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help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MO FABER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an the mak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74284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nd how do we cre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consequ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NVIRONMENT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the physical worl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sources do we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my responsibil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SOCIAL EDUCATION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ow man interacts with himsel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8487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think and a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look after myself and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m I chang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4:57:18Z</dcterms:created>
  <dc:creator>Charmedie Leighton</dc:creator>
  <dc:description/>
  <dc:language>en-US</dc:language>
  <cp:lastModifiedBy>Charmedie Leighton</cp:lastModifiedBy>
  <dcterms:modified xsi:type="dcterms:W3CDTF">2007-08-19T20:56:13Z</dcterms:modified>
  <cp:revision>3</cp:revision>
  <dc:subject/>
  <dc:title>The Middle Years Programme</dc:title>
</cp:coreProperties>
</file>