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BB1-EED5-4313-8F3D-A8570280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5A0-2BD0-468D-A475-854A97A3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FDD-0B08-4A5D-9E7F-15CFAE53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A8C-16BD-4F3C-895E-63EBBF79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7429-8B9F-4966-BC82-9085A084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ADDA-A983-4A15-906A-4F7E47E8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C241-044C-4E56-8414-FF4ED900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144D-21D5-4E8E-80E5-F6AA9C59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64CD-2397-4337-85E1-2AE94581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80BB-121F-4C68-A487-FD0D4CA4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AFA2-2141-416C-BF38-ACA66933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5C0-882B-4D1C-AC3E-568D4BBB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1830-31D9-434C-B966-D339B86E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8CCA-EA75-4DE1-970A-680CB444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8E06-57F1-4CFB-B84F-F3BD78F1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B294-E858-4D5D-A74C-ADAE34AB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3ED3-6C1D-46A6-B96F-EDAA0A19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F87-0F5C-435E-955E-727DC33F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BD2-02C9-410C-ABCC-E9D60D13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647-D0AB-4CB9-9BB2-7C2937F7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762-ED78-41F8-88AB-89F6608F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8609-9A3C-4AE5-ADB5-35CE1CF4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FE5-D49A-44AA-B824-16C3D70A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AC1-49C3-4600-AAD7-3D4E8562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CF9D-289D-4784-8C3F-F33D7D728C8E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CDAB-413F-42F5-9A91-B63CC49DED6E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Middle Years Programm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s of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26708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4178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PPROACHES TO LEARNING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earning system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learn be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communic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MUNITY AND SERVICE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How man interacts with other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81532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we live in relation to each 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contribute to the commun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help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MO FABER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an the mak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1760" y="2742840"/>
            <a:ext cx="79246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nd how do we cre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consequen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NVIRONMENT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How man interacts with the physical worl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81532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esources do we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my responsibil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ALTH AND SOCIAL EDUCATION</a:t>
            </a:r>
            <a:br>
              <a:rPr sz="40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How man interacts with himself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8487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think and a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look after myself and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m I chang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14:57:18Z</dcterms:created>
  <dc:creator>Charmedie Leighton</dc:creator>
  <dc:description/>
  <dc:language>en-US</dc:language>
  <cp:lastModifiedBy>Charmedie Leighton</cp:lastModifiedBy>
  <dcterms:modified xsi:type="dcterms:W3CDTF">2007-08-19T20:56:13Z</dcterms:modified>
  <cp:revision>3</cp:revision>
  <dc:subject/>
  <dc:title>The Middle Years Programme</dc:title>
</cp:coreProperties>
</file>