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79B-1D36-41C7-B0D1-0205089A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FD9-DD51-4B08-BDB7-DB278A7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255-F604-4C0E-B751-B17A5CCA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1E5-0AD4-43F0-82BE-E2CFACDA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3BC7-7478-4470-B670-3A93FEF9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9523-B48D-405B-A98C-65F7DB9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43AA-0E2C-442B-B37A-B540BD8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7E4-CE7D-4465-B6F6-A7D80B7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7E5D-0452-4275-A688-059DE15A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46AD-7D4F-420F-ADC1-C203F92A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7787-C216-45A6-B21F-1F1C217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780-5F7A-41D6-93B1-294A4591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03D-B345-4433-9936-3007550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7EC-8137-45F3-8381-14DD80A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F18-7C9A-44F2-9FEA-B94E300F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A4F5-5205-46F4-923D-9C4ACAAF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9F1-EE5A-4F46-AC25-F4C6D94D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DC4-29D4-4C5A-A046-948414C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1F5-5CA1-4FDC-A22D-185B348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CE3-E39C-43ED-A6EA-7CA7003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239-215B-4822-84E9-027DB283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5FF-14E7-4450-B3EF-1B4FC0A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904-B029-4817-9D6A-C01C56A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A63-5155-47C8-9DB0-7EE67B6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C56-20AA-4711-96FD-15FE24955DA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D28-2794-4DEE-9F6F-C3C69871418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iddle Years Program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7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PROACHES TO LEARNING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rning system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learn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commun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UNITY AND SERVIC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oth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live in relation to each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contribute to the commun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help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MO FABER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 the mak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nd how do we cre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VIRONMEN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the physical worl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source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my responsi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SOCIAL EDUCATION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ow man interacts with himsel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think and 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look after myself and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m I chang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4:57:18Z</dcterms:created>
  <dc:creator>Charmedie Leighton</dc:creator>
  <dc:description/>
  <dc:language>en-US</dc:language>
  <cp:lastModifiedBy>Charmedie Leighton</cp:lastModifiedBy>
  <dcterms:modified xsi:type="dcterms:W3CDTF">2007-08-19T20:56:13Z</dcterms:modified>
  <cp:revision>3</cp:revision>
  <dc:subject/>
  <dc:title>The Middle Years Programme</dc:title>
</cp:coreProperties>
</file>