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C61-9FEC-4B48-84A3-55313A4C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2C3-96F1-4967-8E02-B81B897F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A7E-F081-40C6-B94F-B2C45CEB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0B6-057D-4DFB-95F0-1AE8B7FD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72C7-65BF-4991-A2AE-327A722D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D32E-F184-4E96-9707-FF888CE7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F783-1AE4-4C78-890A-B303FB4C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1D1C-5C4B-4D71-A4F5-768E0CC2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D863-36B1-4B23-B238-6F061910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D82B-DEBE-487D-927F-8737E718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FC0B-075E-43C2-B86A-EF183F0B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972-C20E-45F9-A05E-77235D9D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C28B-D7E3-405A-9D33-DF4F42D0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A973-4051-4E89-831F-07B17E82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3252-7A20-4058-84B3-E0FD2A72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EA32-4B13-4AB0-9EC5-6734FE01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FBF9-CA96-4F1A-A1D3-A19D5CC5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862-AC32-4F2C-B906-29152350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060-1779-4150-BF24-98079C44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2B4-1490-4D80-A6EC-A311A207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2B4-96BB-41BA-B70A-A4F31F47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49D-FC1B-4D1E-B540-0413264D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1E9-6771-43BC-9D69-38DA80DA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BAA-1FA6-4851-AA48-A24AC073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C960-D81B-422A-B9F2-08FB9F56A92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F038-123F-49E5-A92A-802F33BB8FD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Middle Years Programm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17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PPROACHES TO LEARNING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arning system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learn be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communic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MUNITY AND SERVICE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w man interacts with oth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1532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live in relation to each 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contribute to the commun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help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MO FABER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an the mak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2742840"/>
            <a:ext cx="79246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nd how do we cre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consequen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NVIRONMENT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w man interacts with the physical worl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1532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sources do we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my responsibil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 AND SOCIAL EDUCATION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ow man interacts with himsel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8487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think and a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look after myself and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m I chang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4:57:18Z</dcterms:created>
  <dc:creator>Charmedie Leighton</dc:creator>
  <dc:description/>
  <dc:language>en-US</dc:language>
  <cp:lastModifiedBy>Charmedie Leighton</cp:lastModifiedBy>
  <dcterms:modified xsi:type="dcterms:W3CDTF">2007-08-19T20:56:13Z</dcterms:modified>
  <cp:revision>3</cp:revision>
  <dc:subject/>
  <dc:title>The Middle Years Programme</dc:title>
</cp:coreProperties>
</file>