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0B0-8E04-4E74-A5A1-C3FC59DF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D0C-60F4-4CF4-83EA-BAA28A45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BBA-D810-405A-B585-D35726C2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FDF-23CE-4727-BB57-409B1359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B437-9C80-4BFE-88B9-5B162320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5576-8893-4D5B-BD2B-AAA3597F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DA00-C5D9-43B2-BB10-AF25690C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9485-B003-4241-A4BB-C648382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F1B1-B01C-4D3C-B2BF-FD5447E7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92E7-7E3D-41D4-97E2-431C202C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B8A5-35EA-48D5-A548-AE6EEFEF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8BA-9140-44AE-A3FB-FC4BF59D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7436-0723-4472-9A3C-74ECDCBD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AAB2-ECEA-4471-8520-F3B774C9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C9E4-E7C4-4A9A-8FA8-A7888E55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8747-6FDC-4587-977F-59278AAB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8E38-68E6-40E7-A083-153EA56F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01A-34C3-482E-86F4-272CA16E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D55-5397-4DE2-8AB5-68D19BB9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361-BAED-43D7-A753-2E113526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25F-7D34-422E-B133-3F8B38EE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832-0A94-473F-A69C-3F530533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4E3-B42A-4E77-AF44-4D8DCB29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704-7A8F-44E5-82E9-44B401B4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02F1-DB14-459A-87BF-A9E80530FB4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18C-B49C-4225-925A-BAFC7E727D1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Middle Years Program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17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PROACHES TO LEARNING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rning system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learn b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communic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UNITY AND SERVIC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oth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live in relation to each 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contribute to the commun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help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MO FABER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an the mak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nd how do we cre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consequ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VIRONMENT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the physical worl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sources do w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my responsibil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SOCIAL EDUCATION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ow man interacts with himsel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8487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think and a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look after myself and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m I chang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4:57:18Z</dcterms:created>
  <dc:creator>Charmedie Leighton</dc:creator>
  <dc:description/>
  <dc:language>en-US</dc:language>
  <cp:lastModifiedBy>Charmedie Leighton</cp:lastModifiedBy>
  <dcterms:modified xsi:type="dcterms:W3CDTF">2007-08-19T20:56:13Z</dcterms:modified>
  <cp:revision>3</cp:revision>
  <dc:subject/>
  <dc:title>The Middle Years Programme</dc:title>
</cp:coreProperties>
</file>