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C0B-C8B2-41F9-ADFA-266E1830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E34-C364-461A-8B08-2845B36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E4E-5D06-4E96-B75A-540CF7E1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B8C-9730-4C02-B79D-50CA7182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68A7-81E2-41AB-AAEE-724F06A1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2F6A-C6A5-49E1-B0C7-73B4E442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06B2-C2E1-4119-96B5-BE9CED1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AE79-FDE3-4E9C-8EA4-FC7F7C6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6E7-02BA-4CEE-BAE5-17B8324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3A98-008F-40EA-9FE8-F1D55CE4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C9BA-DA6E-45A1-A231-114D291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7B6-9B37-4EF6-B4D4-074B91D1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5EC4-BBD1-4D85-9B14-A38DF1F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223B-B4FE-424C-9E0C-7837307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EC80-7FE4-468C-84AB-DC14842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701-7B0C-4C29-B2FE-8BE74515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3C93-1C71-413D-AA18-1F60B798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533-8B64-4AA6-9148-2CAD4AE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477-A86B-48A8-B095-A31475C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F16-6864-4347-BCE3-CADB3D4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ADB-1111-4893-AFCC-785502D1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293-F636-4210-9F6D-375C380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E5A-52B1-48AE-BA97-A0C144C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E86-A5F7-4B53-BA31-5D103D1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B1D6-98A3-4A6C-9123-24A353FD45F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8D6-5626-4369-8B38-31BEC4365C9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iddle Years Program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17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PROACHES TO LEARNING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arning system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learn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commun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UNITY AND SERVIC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oth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live in relation to each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contribute to the commun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help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MO FABER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an the mak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nd how do we cre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onsequ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VIRONMEN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ow man interacts with the physical worl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1532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source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my responsibi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 AND SOCIAL EDUCATION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ow man interacts with himsel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8487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think and a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look after myself and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m I chang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4:57:18Z</dcterms:created>
  <dc:creator>Charmedie Leighton</dc:creator>
  <dc:description/>
  <dc:language>en-US</dc:language>
  <cp:lastModifiedBy>Charmedie Leighton</cp:lastModifiedBy>
  <dcterms:modified xsi:type="dcterms:W3CDTF">2007-08-19T20:56:13Z</dcterms:modified>
  <cp:revision>3</cp:revision>
  <dc:subject/>
  <dc:title>The Middle Years Programme</dc:title>
</cp:coreProperties>
</file>